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10E4-DA92-4102-AAFD-ADFA9E0F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963960" y="8817120"/>
            <a:ext cx="30322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BFC76-A032-4CF9-A24A-E8BF878DE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FBE6-7C30-40AE-9208-2CA5EF23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1E51-1313-4B76-909F-2565114D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143-260A-495A-95DA-8524A043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93A-7F8A-4377-A19B-3E9D79CB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E29-AD98-4DC6-8595-E50E38F2D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3DD5-9DBE-4F8A-B20C-F148121B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503-3670-4563-B6BD-7060E34D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EF4-DC07-4378-9777-129DAA45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443-BE64-432A-B171-1AB24691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5CDB-B37E-40D1-84E9-78C646CF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1EF8-E7B5-4337-B139-A3E6D780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D425-0A62-4676-BEB6-16BAE94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A4C8-4B8A-46D6-A68C-CBA165408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IC</a:t>
            </a:r>
            <a:br>
              <a:rPr sz="8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Bring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lue to L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685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 Sidebar:  The Glue at the Heart of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57200" y="609480"/>
            <a:ext cx="8534520" cy="63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ons are majority “silent partners” in ordinary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Gluon self-interactions responsible for novel features of QCD            B. Not apparent in quantum #’s, but dominate mass of visible universe                                 C. Apparent untamed growth in gluon density at low x, high Q</a:t>
            </a:r>
            <a:r>
              <a:rPr b="1" lang="en-US" sz="1800" spc="-1" strike="noStrike" baseline="36000">
                <a:solidFill>
                  <a:srgbClr val="d60093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(HE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o gluons play an important role in proton spi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“Missing spin” problem                                                                            B. Launch of RHIC spin program + early constraints on gluon pol’n       C. Direct sensitivity via photon-gluon fusion processes                           D. Ultimate determination by scaling violations in DIS @ E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hat QCD giveth, QCD taketh a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Competition between gluon splitting and recombination </a:t>
            </a:r>
            <a:r>
              <a:rPr b="1" lang="en-US" sz="1800" spc="-1" strike="noStrike">
                <a:solidFill>
                  <a:srgbClr val="d60093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 saturation B. Do all protons and nuclei look the same when viewed at high energy? C. Search for universal saturated gluonic matter at E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0000ff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Gluons made manife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d60093"/>
                </a:solidFill>
                <a:latin typeface="Arial"/>
              </a:rPr>
              <a:t>A. Are there excited states of hadrons where gluons contribute directly to exotic quantum #’s?                                                                                       B. Photo-excitation as the way to excite gluonic vibrations                        C. GLUEx experiment at upgraded CEB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uons dominate Q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CD is 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undame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ory that describes structure and interactions in nuclear ma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out gluons there are no protons, no neutrons, and no atomic nucl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The essential features of QCD (e.g. asymptotic freedom, chiral symmetry breaking, and color confinement) are all driven by the glu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Unique aspect of QCD is the self interaction of the glu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98% of mass of the visible universe arises from g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2c6"/>
                </a:solidFill>
                <a:latin typeface="Arial"/>
              </a:rPr>
              <a:t>Half of the nucleon momentum is carried by glu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gluons are dark: they do not interact directly with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-energy collid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4320-187B-4BE9-9B6C-5C29B47E7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5"/>
          <p:cNvGrpSpPr/>
          <p:nvPr/>
        </p:nvGrpSpPr>
        <p:grpSpPr>
          <a:xfrm>
            <a:off x="4724280" y="2514600"/>
            <a:ext cx="4191120" cy="4005360"/>
            <a:chOff x="4724280" y="2514600"/>
            <a:chExt cx="4191120" cy="4005360"/>
          </a:xfrm>
        </p:grpSpPr>
        <p:pic>
          <p:nvPicPr>
            <p:cNvPr id="53" name="Picture 22" descr=""/>
            <p:cNvPicPr/>
            <p:nvPr/>
          </p:nvPicPr>
          <p:blipFill>
            <a:blip r:embed="rId1"/>
            <a:stretch/>
          </p:blipFill>
          <p:spPr>
            <a:xfrm>
              <a:off x="4724280" y="2514600"/>
              <a:ext cx="4191120" cy="40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34"/>
            <p:cNvSpPr/>
            <p:nvPr/>
          </p:nvSpPr>
          <p:spPr>
            <a:xfrm>
              <a:off x="7467480" y="2895480"/>
              <a:ext cx="1067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Picture 3" descr="heart2quarks"/>
          <p:cNvPicPr/>
          <p:nvPr/>
        </p:nvPicPr>
        <p:blipFill>
          <a:blip r:embed="rId2"/>
          <a:stretch/>
        </p:blipFill>
        <p:spPr>
          <a:xfrm>
            <a:off x="380880" y="2819520"/>
            <a:ext cx="4114800" cy="35589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232560" y="124776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Low Energy View of Nuclear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us = protons + neu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rk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rk mode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27"/>
          <p:cNvSpPr/>
          <p:nvPr/>
        </p:nvSpPr>
        <p:spPr>
          <a:xfrm>
            <a:off x="7467480" y="0"/>
            <a:ext cx="1295640" cy="617220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6172200"/>
              <a:gd name="textAreaBottom" fmla="*/ 6172560 h 6172200"/>
            </a:gdLst>
            <a:ahLst/>
            <a:rect l="textAreaLeft" t="textAreaTop" r="textAreaRight" b="textAreaBottom"/>
            <a:pathLst>
              <a:path w="912" h="4032">
                <a:moveTo>
                  <a:pt x="912" y="4032"/>
                </a:moveTo>
                <a:cubicBezTo>
                  <a:pt x="880" y="4016"/>
                  <a:pt x="848" y="4000"/>
                  <a:pt x="816" y="3936"/>
                </a:cubicBezTo>
                <a:cubicBezTo>
                  <a:pt x="784" y="3872"/>
                  <a:pt x="760" y="3784"/>
                  <a:pt x="720" y="3648"/>
                </a:cubicBezTo>
                <a:cubicBezTo>
                  <a:pt x="680" y="3512"/>
                  <a:pt x="640" y="3352"/>
                  <a:pt x="576" y="3120"/>
                </a:cubicBezTo>
                <a:cubicBezTo>
                  <a:pt x="512" y="2888"/>
                  <a:pt x="432" y="2776"/>
                  <a:pt x="336" y="2256"/>
                </a:cubicBezTo>
                <a:cubicBezTo>
                  <a:pt x="240" y="1736"/>
                  <a:pt x="120" y="868"/>
                  <a:pt x="0" y="0"/>
                </a:cubicBez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32"/>
          <p:cNvSpPr/>
          <p:nvPr/>
        </p:nvSpPr>
        <p:spPr>
          <a:xfrm>
            <a:off x="6019920" y="4191120"/>
            <a:ext cx="838080" cy="4572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3"/>
          <p:cNvSpPr/>
          <p:nvPr/>
        </p:nvSpPr>
        <p:spPr>
          <a:xfrm>
            <a:off x="6553080" y="3124080"/>
            <a:ext cx="1295640" cy="106704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816" h="672">
                <a:moveTo>
                  <a:pt x="0" y="672"/>
                </a:moveTo>
                <a:cubicBezTo>
                  <a:pt x="76" y="488"/>
                  <a:pt x="152" y="304"/>
                  <a:pt x="288" y="192"/>
                </a:cubicBezTo>
                <a:cubicBezTo>
                  <a:pt x="424" y="80"/>
                  <a:pt x="620" y="40"/>
                  <a:pt x="8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6"/>
          <p:cNvSpPr/>
          <p:nvPr/>
        </p:nvSpPr>
        <p:spPr>
          <a:xfrm>
            <a:off x="4800600" y="12193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e High Energy View of Nuclear Ma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sible Universe is generated by quarks, but dominated by the dark glu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7"/>
          <p:cNvSpPr/>
          <p:nvPr/>
        </p:nvSpPr>
        <p:spPr>
          <a:xfrm>
            <a:off x="6785280" y="3505320"/>
            <a:ext cx="102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ctor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posing the high-energy (dark) side of the nucle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6918480" y="148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8"/>
          <p:cNvSpPr/>
          <p:nvPr/>
        </p:nvSpPr>
        <p:spPr>
          <a:xfrm>
            <a:off x="304920" y="16765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Explore the new QCD fronti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strong color fields in nuc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304920" y="378144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Precisely image the sea-qu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and gluons in the nucle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IC science has evolved from new insights and technical accomplishments over the last decade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996 development of GP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1999 high-power energy recovery linac techn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0 universal properties of strongly interacting gl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0 emergence of transverse-spin phenome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~2001 world’s first high energy polarized proton coll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2003 RHIC sees tantalizing hints of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~2006 electron cooling for high-energy bea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31CF-14A3-41E0-A092-8ACEF6276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E:\ViewGraph.png"/>
          <p:cNvPicPr/>
          <p:nvPr/>
        </p:nvPicPr>
        <p:blipFill>
          <a:blip r:embed="rId1"/>
          <a:stretch/>
        </p:blipFill>
        <p:spPr>
          <a:xfrm>
            <a:off x="291960" y="644400"/>
            <a:ext cx="8623440" cy="60613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4"/>
          <p:cNvSpPr/>
          <p:nvPr/>
        </p:nvSpPr>
        <p:spPr>
          <a:xfrm>
            <a:off x="380880" y="152280"/>
            <a:ext cx="5257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IC in Contex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E275-D2FA-4AA5-8C6C-939E555EA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HERA did not do EIC physic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 phys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 to Ca beams consider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ow luminosity (1000 compared to EIC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uld have needed ~$100M  to upgrade the source to have more ions, but still the low luminos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ed e-p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A-p ring is not plan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. of Siberian snake magnets required to polarize beam estimated to be 6-8: Not enough straight sections for Siberian snakes and not enough space in the tunnel for their cryogenic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ly diffic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Y was a HEP laboratory focused on the high energy fronti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pping and understanding the role of glue in the nucleo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undamental properties of the nucleon are dominated by glu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2c6"/>
                </a:solidFill>
                <a:latin typeface="Arial"/>
              </a:rPr>
              <a:t>Without the gluons, the nucleon mass would be just 10 MeV (98% of mass of the visible universe arises from gl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2c6"/>
                </a:solidFill>
                <a:latin typeface="Arial"/>
              </a:rPr>
              <a:t>Half of the nucleon momentum is carried by glu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1e02c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2c6"/>
                </a:solidFill>
                <a:latin typeface="Arial"/>
              </a:rPr>
              <a:t>We expect significant contribution to the proton spin from glu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ull exploration of gluons in the nucleon: gluon-tomography at EIC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Mapping out the gluon helicity contribution to the nucleon spin at the highest energ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55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Mapping out the space and momentum distributions of the gluons through novel hard exclusive process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1:03:01Z</dcterms:created>
  <dc:creator>Thomas Ullrich</dc:creator>
  <dc:description/>
  <dc:language>en-US</dc:language>
  <cp:lastModifiedBy>Eyser, Kjeld Oleg</cp:lastModifiedBy>
  <dcterms:modified xsi:type="dcterms:W3CDTF">2014-07-15T17:54:48Z</dcterms:modified>
  <cp:revision>223</cp:revision>
  <dc:subject>SVT Review Talk</dc:subject>
  <dc:title>Impact of the SVT/SSD Material on Electron Measurements in STAR</dc:title>
</cp:coreProperties>
</file>